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EDE4-2E6A-40D4-A445-15D7D0EA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EE84-BF1A-4C9D-A0B3-65B451C4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DDFC-5B55-4A3F-AB44-8B64DBF4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CD4E-483D-4FE4-9E96-3E3EB0D9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585C-21B3-437D-87F1-7189B3DF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FC96-C530-4AC9-AF20-3DB8C49A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FCE0-7949-4367-B396-53FBE0E5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9487-41EC-42EE-82A3-80BFA66C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C4E4-937C-4901-95ED-4C0918D4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63BE-E8F5-4053-B96B-5F4EDED7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A19D-51A8-480F-8E36-BD267551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40F7-B255-4C8A-880A-A1E52562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DC22-1C88-4118-BA7C-4D075BE4B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1"/>
          <p:cNvSpPr/>
          <p:nvPr/>
        </p:nvSpPr>
        <p:spPr>
          <a:xfrm>
            <a:off x="2596320" y="617220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&lt;Giuliano Web Fig A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2"/>
          <p:cNvSpPr/>
          <p:nvPr/>
        </p:nvSpPr>
        <p:spPr>
          <a:xfrm>
            <a:off x="2743200" y="3429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33"/>
          <p:cNvSpPr/>
          <p:nvPr/>
        </p:nvSpPr>
        <p:spPr>
          <a:xfrm flipV="1">
            <a:off x="2743200" y="1600200"/>
            <a:ext cx="34290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4"/>
          <p:cNvSpPr/>
          <p:nvPr/>
        </p:nvSpPr>
        <p:spPr>
          <a:xfrm>
            <a:off x="6172200" y="16002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6400800" y="24382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6"/>
          <p:cNvSpPr/>
          <p:nvPr/>
        </p:nvSpPr>
        <p:spPr>
          <a:xfrm>
            <a:off x="4345200" y="3657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7"/>
          <p:cNvSpPr/>
          <p:nvPr/>
        </p:nvSpPr>
        <p:spPr>
          <a:xfrm>
            <a:off x="4192920" y="1981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8"/>
          <p:cNvSpPr/>
          <p:nvPr/>
        </p:nvSpPr>
        <p:spPr>
          <a:xfrm>
            <a:off x="3507120" y="304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9"/>
          <p:cNvSpPr/>
          <p:nvPr/>
        </p:nvSpPr>
        <p:spPr>
          <a:xfrm>
            <a:off x="579312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0"/>
          <p:cNvSpPr/>
          <p:nvPr/>
        </p:nvSpPr>
        <p:spPr>
          <a:xfrm>
            <a:off x="5640120" y="2895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1"/>
          <p:cNvSpPr/>
          <p:nvPr/>
        </p:nvSpPr>
        <p:spPr>
          <a:xfrm>
            <a:off x="59436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2"/>
          <p:cNvSpPr/>
          <p:nvPr/>
        </p:nvSpPr>
        <p:spPr>
          <a:xfrm>
            <a:off x="594360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2"/>
          <p:cNvSpPr/>
          <p:nvPr/>
        </p:nvSpPr>
        <p:spPr>
          <a:xfrm>
            <a:off x="3200400" y="1600200"/>
            <a:ext cx="46080" cy="28954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361240" y="2819520"/>
            <a:ext cx="72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 f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1371600" y="44956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892680" y="48769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3276720" y="1600200"/>
            <a:ext cx="281916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7"/>
          <p:cNvSpPr/>
          <p:nvPr/>
        </p:nvSpPr>
        <p:spPr>
          <a:xfrm rot="18331800">
            <a:off x="6191280" y="3332880"/>
            <a:ext cx="1904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6477120" y="365760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2438280" y="1600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 flipV="1">
            <a:off x="2666880" y="1676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26668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 rot="2211600">
            <a:off x="4463280" y="2145960"/>
            <a:ext cx="105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 f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lf Dip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 flipH="1">
            <a:off x="3352320" y="1295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 flipH="1">
            <a:off x="6095520" y="2971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5562720" y="27432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 flipH="1" flipV="1">
            <a:off x="3581280" y="137124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3276720" y="213372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6.7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rc 18"/>
          <p:cNvSpPr/>
          <p:nvPr/>
        </p:nvSpPr>
        <p:spPr>
          <a:xfrm flipV="1">
            <a:off x="3200400" y="2437560"/>
            <a:ext cx="1309680" cy="685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4495680" y="3886200"/>
            <a:ext cx="105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.5 f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Anch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0"/>
          <p:cNvSpPr/>
          <p:nvPr/>
        </p:nvSpPr>
        <p:spPr>
          <a:xfrm>
            <a:off x="5638680" y="41911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1"/>
          <p:cNvSpPr/>
          <p:nvPr/>
        </p:nvSpPr>
        <p:spPr>
          <a:xfrm flipH="1">
            <a:off x="3276720" y="4191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2"/>
          <p:cNvSpPr/>
          <p:nvPr/>
        </p:nvSpPr>
        <p:spPr>
          <a:xfrm>
            <a:off x="76960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3"/>
          <p:cNvSpPr/>
          <p:nvPr/>
        </p:nvSpPr>
        <p:spPr>
          <a:xfrm rot="2211600">
            <a:off x="6602760" y="3495240"/>
            <a:ext cx="129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 f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 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7772400" y="3733920"/>
            <a:ext cx="105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85 f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5"/>
          <p:cNvSpPr/>
          <p:nvPr/>
        </p:nvSpPr>
        <p:spPr>
          <a:xfrm>
            <a:off x="777240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6"/>
          <p:cNvSpPr/>
          <p:nvPr/>
        </p:nvSpPr>
        <p:spPr>
          <a:xfrm flipV="1">
            <a:off x="807732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7"/>
          <p:cNvSpPr/>
          <p:nvPr/>
        </p:nvSpPr>
        <p:spPr>
          <a:xfrm>
            <a:off x="807732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8"/>
          <p:cNvSpPr/>
          <p:nvPr/>
        </p:nvSpPr>
        <p:spPr>
          <a:xfrm>
            <a:off x="2602440" y="617220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&lt;Giuliano Web Fig B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 flipH="1">
            <a:off x="1143000" y="4495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"/>
          <p:cNvSpPr/>
          <p:nvPr/>
        </p:nvSpPr>
        <p:spPr>
          <a:xfrm flipH="1">
            <a:off x="1600200" y="4495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 flipH="1">
            <a:off x="2133720" y="4495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 flipH="1">
            <a:off x="2590920" y="4495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 flipH="1">
            <a:off x="3048120" y="4495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 flipH="1">
            <a:off x="3580920" y="44956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 flipH="1">
            <a:off x="4114800" y="4495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 flipH="1">
            <a:off x="4572000" y="4495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 flipH="1">
            <a:off x="5105520" y="4495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 flipH="1">
            <a:off x="5638320" y="44956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 flipH="1">
            <a:off x="6095520" y="44956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 flipH="1">
            <a:off x="6629400" y="4495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 flipH="1">
            <a:off x="7086600" y="4495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 flipH="1">
            <a:off x="7543800" y="4495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 flipH="1">
            <a:off x="8077320" y="4495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2"/>
          <p:cNvSpPr/>
          <p:nvPr/>
        </p:nvSpPr>
        <p:spPr>
          <a:xfrm>
            <a:off x="3200400" y="1600200"/>
            <a:ext cx="46080" cy="28954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599120" y="2895480"/>
            <a:ext cx="72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 f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235320" y="1585080"/>
            <a:ext cx="3054240" cy="140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7"/>
          <p:cNvSpPr/>
          <p:nvPr/>
        </p:nvSpPr>
        <p:spPr>
          <a:xfrm rot="18331800">
            <a:off x="6419880" y="2952000"/>
            <a:ext cx="1904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6705720" y="3200400"/>
            <a:ext cx="22096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1676520" y="1676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 flipV="1">
            <a:off x="1905120" y="1752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1905120" y="3505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 rot="1695600">
            <a:off x="4539600" y="1917360"/>
            <a:ext cx="105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 f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lf Dip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 flipH="1">
            <a:off x="3295440" y="1126080"/>
            <a:ext cx="174600" cy="33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"/>
          <p:cNvSpPr/>
          <p:nvPr/>
        </p:nvSpPr>
        <p:spPr>
          <a:xfrm flipH="1">
            <a:off x="6355080" y="2574720"/>
            <a:ext cx="243360" cy="42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5"/>
          <p:cNvSpPr/>
          <p:nvPr/>
        </p:nvSpPr>
        <p:spPr>
          <a:xfrm>
            <a:off x="5613120" y="2410920"/>
            <a:ext cx="660960" cy="28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6"/>
          <p:cNvSpPr/>
          <p:nvPr/>
        </p:nvSpPr>
        <p:spPr>
          <a:xfrm flipH="1" flipV="1">
            <a:off x="3459240" y="1373040"/>
            <a:ext cx="1081800" cy="52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 rot="21054600">
            <a:off x="3352680" y="1911240"/>
            <a:ext cx="59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4.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rc 18"/>
          <p:cNvSpPr/>
          <p:nvPr/>
        </p:nvSpPr>
        <p:spPr>
          <a:xfrm flipV="1" rot="21079800">
            <a:off x="3047400" y="2133720"/>
            <a:ext cx="1309680" cy="686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5105520" y="3886200"/>
            <a:ext cx="105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7 f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Anch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0"/>
          <p:cNvSpPr/>
          <p:nvPr/>
        </p:nvSpPr>
        <p:spPr>
          <a:xfrm>
            <a:off x="6172200" y="4191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1"/>
          <p:cNvSpPr/>
          <p:nvPr/>
        </p:nvSpPr>
        <p:spPr>
          <a:xfrm flipH="1">
            <a:off x="3276720" y="41911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3"/>
          <p:cNvSpPr/>
          <p:nvPr/>
        </p:nvSpPr>
        <p:spPr>
          <a:xfrm rot="1432200">
            <a:off x="7085880" y="3047760"/>
            <a:ext cx="129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.9 f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 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602800" y="6172200"/>
            <a:ext cx="26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&lt;Giuliano Web Fig C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2362320" y="2286000"/>
            <a:ext cx="72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 f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0"/>
          <p:cNvSpPr/>
          <p:nvPr/>
        </p:nvSpPr>
        <p:spPr>
          <a:xfrm>
            <a:off x="3200400" y="3200400"/>
            <a:ext cx="32004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1"/>
          <p:cNvSpPr/>
          <p:nvPr/>
        </p:nvSpPr>
        <p:spPr>
          <a:xfrm flipV="1">
            <a:off x="2666880" y="1676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2"/>
          <p:cNvSpPr/>
          <p:nvPr/>
        </p:nvSpPr>
        <p:spPr>
          <a:xfrm>
            <a:off x="26668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3"/>
          <p:cNvSpPr/>
          <p:nvPr/>
        </p:nvSpPr>
        <p:spPr>
          <a:xfrm>
            <a:off x="251460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4"/>
          <p:cNvSpPr/>
          <p:nvPr/>
        </p:nvSpPr>
        <p:spPr>
          <a:xfrm>
            <a:off x="2133720" y="3505320"/>
            <a:ext cx="103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 f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5"/>
          <p:cNvSpPr/>
          <p:nvPr/>
        </p:nvSpPr>
        <p:spPr>
          <a:xfrm flipV="1">
            <a:off x="2666880" y="3200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6"/>
          <p:cNvSpPr/>
          <p:nvPr/>
        </p:nvSpPr>
        <p:spPr>
          <a:xfrm>
            <a:off x="266688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 flipV="1">
            <a:off x="1371600" y="4419360"/>
            <a:ext cx="7086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 flipH="1">
            <a:off x="1143000" y="4495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 flipH="1">
            <a:off x="1600200" y="4495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"/>
          <p:cNvSpPr/>
          <p:nvPr/>
        </p:nvSpPr>
        <p:spPr>
          <a:xfrm flipH="1">
            <a:off x="2133720" y="4495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 flipH="1">
            <a:off x="2590920" y="4495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 flipH="1">
            <a:off x="3048120" y="4495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 flipH="1">
            <a:off x="3580920" y="44956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"/>
          <p:cNvSpPr/>
          <p:nvPr/>
        </p:nvSpPr>
        <p:spPr>
          <a:xfrm flipH="1">
            <a:off x="4114800" y="4495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 flipH="1">
            <a:off x="4572000" y="4495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 flipH="1">
            <a:off x="5105520" y="4495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"/>
          <p:cNvSpPr/>
          <p:nvPr/>
        </p:nvSpPr>
        <p:spPr>
          <a:xfrm flipH="1">
            <a:off x="5638320" y="44956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"/>
          <p:cNvSpPr/>
          <p:nvPr/>
        </p:nvSpPr>
        <p:spPr>
          <a:xfrm flipH="1">
            <a:off x="6172200" y="4495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 flipH="1">
            <a:off x="670572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 flipH="1">
            <a:off x="716292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 flipH="1">
            <a:off x="762012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 flipH="1">
            <a:off x="8077320" y="4419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20:08:51Z</dcterms:created>
  <dc:creator>Joel Hallas</dc:creator>
  <dc:description/>
  <dc:language>en-US</dc:language>
  <cp:lastModifiedBy>Joel R. Hallas</cp:lastModifiedBy>
  <dcterms:modified xsi:type="dcterms:W3CDTF">2008-05-01T15:26:47Z</dcterms:modified>
  <cp:revision>11</cp:revision>
  <dc:subject/>
  <dc:title>Slide 1</dc:title>
</cp:coreProperties>
</file>